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4C9-4DDB-46F6-AE6B-C07388DC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0AC-BC10-4915-8D98-979FE785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CB2-92B7-4BF2-9B16-12A07EBA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12C-1E68-4A94-A014-8A14C815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B344-632E-4E2F-9E4B-84128B4B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F1B-A88E-43E5-8B74-73AABF1D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152-1AC6-417B-953B-372619A2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D4B5-A35F-46BF-AF7F-8FF1D2CB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7615-16AB-436B-8B52-8E0C8472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54DE-8B59-4339-90E7-C6DE30C0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DE71-50D3-4A0B-AD7E-967EA2BF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64D-747D-4335-B51F-35152504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35BB-DEB6-4B39-A23A-30A13D2C1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ip-medien.com/" TargetMode="External"/><Relationship Id="rId2" Type="http://schemas.openxmlformats.org/officeDocument/2006/relationships/hyperlink" Target="mailto:cipmedien@aol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4320" y="666720"/>
            <a:ext cx="54864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tscheidungsbaum zur Stellung einer ICD-10-Diagnose bei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wangs-Syndrom laut VDS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: Liegt eine Zwangsstörung vor (F42)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7400" y="27288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838160"/>
            <a:ext cx="2361960" cy="702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nten Sie im VDS14-Befund Zwangsgedanken (Gedanken, Ideen oder Vorstellungen) und/oder Zwangshandlungen nachweis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DS14/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8560" y="1614600"/>
            <a:ext cx="412200" cy="21564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4960" y="8143920"/>
            <a:ext cx="236232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egen diese Symptome seit mindestes zwei Wochen vor und bestehen an den meisten Tag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1680" y="3038400"/>
            <a:ext cx="2286000" cy="82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nd diese für den Patienten als eigene Gedanken und/oder Impulse erkennbar, d. h. ist er sich im klaren darüber, dass sie nicht von eineraußenstehenden Person oder Kraft erzeugt werd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s VDS14/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3100320"/>
            <a:ext cx="2133360" cy="702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Überprüfen sie das Vorliegen einer Schizophrenie (F20) oder anderen wahnhaften Störung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gl. VDS 14 psychotisches Syndrom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gl. Seite 1-7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680" y="4410000"/>
            <a:ext cx="228600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stet der Patient wenigstens einem Gedanken und/oder einer Handlung noch, wenn auch erfolglos Widerstand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s VDS14/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680" y="5591160"/>
            <a:ext cx="2286000" cy="82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t die Ausführung des Gedankens und/oder der Handlung für sich genommen unangenehm, wobei eine kurzfristige Erleichterung von Spannung und Angst nicht als angenehm in diesem Sinne zu verstehen sin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680" y="6924600"/>
            <a:ext cx="2286000" cy="702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iederholen sich die Gedanken und/oder Handlungen in unangenehmer Weise, und wird zumindest eine Zwangsidee oder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–handlung vom Patienten als sinnlos erkannt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aus VDS14/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5591160"/>
            <a:ext cx="2133360" cy="82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wägen sie das Vorliegen einer Störung der Impulskontrolle oder abnorme Gewohnheit (F63)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vgl. VDS14 weitere Syndrome, unspezifische Symptome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gl. Seite 72 - 7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8258040"/>
            <a:ext cx="1143000" cy="215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iter auf Seite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3" idx="2"/>
            <a:endCxn id="46" idx="0"/>
          </p:cNvCxnSpPr>
          <p:nvPr/>
        </p:nvCxnSpPr>
        <p:spPr>
          <a:xfrm>
            <a:off x="1714320" y="2540520"/>
            <a:ext cx="720" cy="49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6" idx="2"/>
            <a:endCxn id="48" idx="0"/>
          </p:cNvCxnSpPr>
          <p:nvPr/>
        </p:nvCxnSpPr>
        <p:spPr>
          <a:xfrm>
            <a:off x="1714680" y="3862440"/>
            <a:ext cx="360" cy="54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6" idx="3"/>
            <a:endCxn id="47" idx="1"/>
          </p:cNvCxnSpPr>
          <p:nvPr/>
        </p:nvCxnSpPr>
        <p:spPr>
          <a:xfrm>
            <a:off x="2857680" y="3450240"/>
            <a:ext cx="133380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8" idx="2"/>
            <a:endCxn id="49" idx="0"/>
          </p:cNvCxnSpPr>
          <p:nvPr/>
        </p:nvCxnSpPr>
        <p:spPr>
          <a:xfrm>
            <a:off x="1714680" y="4990680"/>
            <a:ext cx="36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3"/>
            <a:endCxn id="51" idx="1"/>
          </p:cNvCxnSpPr>
          <p:nvPr/>
        </p:nvCxnSpPr>
        <p:spPr>
          <a:xfrm>
            <a:off x="2857680" y="6003000"/>
            <a:ext cx="13338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9" idx="2"/>
            <a:endCxn id="50" idx="0"/>
          </p:cNvCxnSpPr>
          <p:nvPr/>
        </p:nvCxnSpPr>
        <p:spPr>
          <a:xfrm>
            <a:off x="1714680" y="6415200"/>
            <a:ext cx="360" cy="50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0" idx="2"/>
            <a:endCxn id="45" idx="0"/>
          </p:cNvCxnSpPr>
          <p:nvPr/>
        </p:nvCxnSpPr>
        <p:spPr>
          <a:xfrm>
            <a:off x="1714680" y="7626960"/>
            <a:ext cx="1800" cy="51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897280" y="81630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01720" y="76341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16120" y="64231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01720" y="49975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1720" y="38703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01720" y="25588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57680" y="324000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57680" y="579276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5" idx="3"/>
            <a:endCxn id="52" idx="1"/>
          </p:cNvCxnSpPr>
          <p:nvPr/>
        </p:nvCxnSpPr>
        <p:spPr>
          <a:xfrm flipV="1">
            <a:off x="2897280" y="8365680"/>
            <a:ext cx="129420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24960" y="7051680"/>
            <a:ext cx="1968480" cy="855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pyright: CIP-Medien Verla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cip-medie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ipmedien@aol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toren: S. Holzer und S.Sul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17400" y="27288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6560" y="2184480"/>
            <a:ext cx="194328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n eine Verursachung der Symptome durch eine Depression ausgeschlossen wer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83160" y="2247840"/>
            <a:ext cx="2331720" cy="337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Überprüfen Sie das Vorliegen einer Depression anhand der Seiten 12 – 20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1800" y="4019400"/>
            <a:ext cx="215100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n eine Verursachung der Symptome durch eine Schizophrenie, oder eine andere organische Verursachung ausgeschlossen wer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6560" y="5083200"/>
            <a:ext cx="194328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egen vorwiegend Zwangsgedanken oder Zwangsgrübeln vor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s VDS14/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6560" y="6051600"/>
            <a:ext cx="194328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egen vorwiegend Zwangshandlungen vor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s VDS14/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6560" y="7162920"/>
            <a:ext cx="194328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egen Zwangsgedanken und Zwangshandlungen gemischt vor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s VDS14/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6560" y="8258040"/>
            <a:ext cx="1943280" cy="702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t die Symptomatik klinisch bedeutsam und kann nicht in eine der vorliegenden spezifischen Zwangsstörungen eingeordnet wer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4680" y="571680"/>
            <a:ext cx="0" cy="66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83160" y="5019840"/>
            <a:ext cx="197460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42.0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Zwangsstörung mit vorwiegend Zwangsgedanken oder Zwangsgrübel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83160" y="6048360"/>
            <a:ext cx="197460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42.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Zwangsstörung mit vorwiegend Zwangshandlungen (Zwangsritua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83160" y="7089840"/>
            <a:ext cx="197460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42.2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Zwangsstörung mit Zwangsgedanken und Zwangshandlungen gemisch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83160" y="8437680"/>
            <a:ext cx="197460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42.8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sonstige Zwangsstö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72" idx="3"/>
            <a:endCxn id="73" idx="1"/>
          </p:cNvCxnSpPr>
          <p:nvPr/>
        </p:nvCxnSpPr>
        <p:spPr>
          <a:xfrm>
            <a:off x="2679480" y="2417760"/>
            <a:ext cx="10036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4" idx="2"/>
            <a:endCxn id="75" idx="0"/>
          </p:cNvCxnSpPr>
          <p:nvPr/>
        </p:nvCxnSpPr>
        <p:spPr>
          <a:xfrm>
            <a:off x="1707840" y="4606560"/>
            <a:ext cx="108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5" idx="2"/>
            <a:endCxn id="76" idx="0"/>
          </p:cNvCxnSpPr>
          <p:nvPr/>
        </p:nvCxnSpPr>
        <p:spPr>
          <a:xfrm>
            <a:off x="1707840" y="5548320"/>
            <a:ext cx="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5" idx="3"/>
            <a:endCxn id="80" idx="1"/>
          </p:cNvCxnSpPr>
          <p:nvPr/>
        </p:nvCxnSpPr>
        <p:spPr>
          <a:xfrm>
            <a:off x="2679840" y="5316120"/>
            <a:ext cx="9939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76" idx="3"/>
            <a:endCxn id="81" idx="1"/>
          </p:cNvCxnSpPr>
          <p:nvPr/>
        </p:nvCxnSpPr>
        <p:spPr>
          <a:xfrm>
            <a:off x="2679840" y="6284520"/>
            <a:ext cx="9939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6" idx="2"/>
            <a:endCxn id="77" idx="0"/>
          </p:cNvCxnSpPr>
          <p:nvPr/>
        </p:nvCxnSpPr>
        <p:spPr>
          <a:xfrm>
            <a:off x="1707840" y="6516360"/>
            <a:ext cx="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7" idx="3"/>
            <a:endCxn id="82" idx="1"/>
          </p:cNvCxnSpPr>
          <p:nvPr/>
        </p:nvCxnSpPr>
        <p:spPr>
          <a:xfrm flipV="1">
            <a:off x="2679840" y="7389360"/>
            <a:ext cx="993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2"/>
            <a:endCxn id="78" idx="0"/>
          </p:cNvCxnSpPr>
          <p:nvPr/>
        </p:nvCxnSpPr>
        <p:spPr>
          <a:xfrm>
            <a:off x="1707840" y="7628040"/>
            <a:ext cx="108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8" idx="3"/>
            <a:endCxn id="83" idx="1"/>
          </p:cNvCxnSpPr>
          <p:nvPr/>
        </p:nvCxnSpPr>
        <p:spPr>
          <a:xfrm>
            <a:off x="2679840" y="8613360"/>
            <a:ext cx="993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679840" y="2208240"/>
            <a:ext cx="39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5600" y="4632480"/>
            <a:ext cx="39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95600" y="1714680"/>
            <a:ext cx="39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0760" y="5111640"/>
            <a:ext cx="39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0760" y="6070680"/>
            <a:ext cx="39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0760" y="7182000"/>
            <a:ext cx="39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79840" y="8397720"/>
            <a:ext cx="39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89120" y="5548320"/>
            <a:ext cx="39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9120" y="6519960"/>
            <a:ext cx="39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5600" y="7628040"/>
            <a:ext cx="39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600" y="1249200"/>
            <a:ext cx="236196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nd die Symptome quälend und/oder behindern sie den normalen Vollzug des Alltag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3" idx="2"/>
            <a:endCxn id="72" idx="0"/>
          </p:cNvCxnSpPr>
          <p:nvPr/>
        </p:nvCxnSpPr>
        <p:spPr>
          <a:xfrm>
            <a:off x="1706040" y="1714320"/>
            <a:ext cx="2520" cy="47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1714680" y="2649600"/>
            <a:ext cx="39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8560" y="3105000"/>
            <a:ext cx="215100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n eine Verursachung der Symptome durch ein Tourette-Syndrom ausgeschlossen wer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72" idx="2"/>
            <a:endCxn id="106" idx="0"/>
          </p:cNvCxnSpPr>
          <p:nvPr/>
        </p:nvCxnSpPr>
        <p:spPr>
          <a:xfrm flipH="1">
            <a:off x="1704240" y="2649240"/>
            <a:ext cx="3960" cy="45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6" idx="2"/>
            <a:endCxn id="74" idx="0"/>
          </p:cNvCxnSpPr>
          <p:nvPr/>
        </p:nvCxnSpPr>
        <p:spPr>
          <a:xfrm>
            <a:off x="1704600" y="3570120"/>
            <a:ext cx="3960" cy="45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714680" y="3570120"/>
            <a:ext cx="39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73440" y="3162240"/>
            <a:ext cx="2332080" cy="337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Überprüfen Sie das Vorliegen eines Tourette-Syndroms anhand der Seite 7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6" idx="3"/>
            <a:endCxn id="110" idx="1"/>
          </p:cNvCxnSpPr>
          <p:nvPr/>
        </p:nvCxnSpPr>
        <p:spPr>
          <a:xfrm flipV="1">
            <a:off x="2779200" y="3333240"/>
            <a:ext cx="89460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779560" y="3114720"/>
            <a:ext cx="40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15:27:28Z</dcterms:created>
  <dc:creator>stefan holzer</dc:creator>
  <dc:description/>
  <dc:language>en-US</dc:language>
  <cp:lastModifiedBy>Dr. Sulz</cp:lastModifiedBy>
  <dcterms:modified xsi:type="dcterms:W3CDTF">2006-02-12T06:29:34Z</dcterms:modified>
  <cp:revision>12</cp:revision>
  <dc:subject/>
  <dc:title>PowerPoint-Präsentation</dc:title>
</cp:coreProperties>
</file>